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9BF35-63AE-46A6-BB1E-BA20F4BE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13FF6-94AB-47E0-A156-A02302C9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3768E-AB94-4180-838D-22B6858A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2A3E-E53F-473C-988E-7DD3D173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EDA8-546A-484A-8919-E13994AD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A8C4-5053-4C2D-9938-829D2BD3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42AD-8015-4412-861B-A99AE5F1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88C9-93D5-43E8-A24E-6F0990FB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7946-9DF0-4BCE-A98B-CEDE1D38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5152-F95D-4E71-BCF7-2989134D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DBBF-11AA-4E9E-9B46-572658B7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D48B1-77A9-48B2-94E7-61B9B443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B11D-13FD-48BC-8074-F709E2B3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A944-357A-4EE7-B48D-8C86CE10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FA3F-FC92-4BE2-A176-A5F05BD3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B574-364E-4444-BA4E-FCD9DB51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82C1-8CF1-4F45-8019-0236BF58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98824-C2BD-4921-8F46-1AAD9DDC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8FE5D-F097-4149-B8AC-C6B3CC11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B1CB-3871-42CC-A418-0959476B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EC11-1E22-441C-AEA8-994A09AA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F97F-4907-4024-B39C-5869C9A8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D2107-A7EC-4754-9AB7-065F8300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54F97-C5A3-41E7-9FBA-4145AB78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0" y="0"/>
            <a:ext cx="9144000" cy="1447920"/>
            <a:chOff x="0" y="0"/>
            <a:chExt cx="9144000" cy="144792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e7f4ce"/>
                </a:gs>
                <a:gs pos="100000">
                  <a:srgbClr val="aad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981080" y="380880"/>
              <a:ext cx="71629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a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0" y="1143000"/>
              <a:ext cx="9144000" cy="304920"/>
            </a:xfrm>
            <a:prstGeom prst="rect">
              <a:avLst/>
            </a:prstGeom>
            <a:solidFill>
              <a:srgbClr val="559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Picture 26" descr="02"/>
          <p:cNvPicPr/>
          <p:nvPr/>
        </p:nvPicPr>
        <p:blipFill>
          <a:blip r:embed="rId2"/>
          <a:stretch/>
        </p:blipFill>
        <p:spPr>
          <a:xfrm>
            <a:off x="7715160" y="77760"/>
            <a:ext cx="1067040" cy="1047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76BD-9664-467B-8677-9805EC13B9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4" descr=""/>
          <p:cNvPicPr/>
          <p:nvPr/>
        </p:nvPicPr>
        <p:blipFill>
          <a:blip r:embed="rId3"/>
          <a:stretch/>
        </p:blipFill>
        <p:spPr>
          <a:xfrm>
            <a:off x="8424720" y="95400"/>
            <a:ext cx="673200" cy="564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5" descr=""/>
          <p:cNvPicPr/>
          <p:nvPr/>
        </p:nvPicPr>
        <p:blipFill>
          <a:blip r:embed="rId4"/>
          <a:srcRect l="0" t="0" r="1014" b="0"/>
          <a:stretch/>
        </p:blipFill>
        <p:spPr>
          <a:xfrm>
            <a:off x="8001000" y="311040"/>
            <a:ext cx="914400" cy="7747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45684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a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2514600"/>
            <a:ext cx="9144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a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02"/>
          <p:cNvPicPr/>
          <p:nvPr/>
        </p:nvPicPr>
        <p:blipFill>
          <a:blip r:embed="rId2"/>
          <a:stretch/>
        </p:blipFill>
        <p:spPr>
          <a:xfrm>
            <a:off x="4800600" y="103320"/>
            <a:ext cx="4162320" cy="4087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559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5" descr="02"/>
          <p:cNvPicPr/>
          <p:nvPr/>
        </p:nvPicPr>
        <p:blipFill>
          <a:blip r:embed="rId3"/>
          <a:stretch/>
        </p:blipFill>
        <p:spPr>
          <a:xfrm>
            <a:off x="1066680" y="3048120"/>
            <a:ext cx="1981440" cy="194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4"/>
          <a:srcRect l="0" t="0" r="8662" b="0"/>
          <a:stretch/>
        </p:blipFill>
        <p:spPr>
          <a:xfrm>
            <a:off x="6781680" y="1538280"/>
            <a:ext cx="2057400" cy="189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"/>
          <p:cNvPicPr/>
          <p:nvPr/>
        </p:nvPicPr>
        <p:blipFill>
          <a:blip r:embed="rId5"/>
          <a:srcRect l="0" t="0" r="1011" b="0"/>
          <a:stretch/>
        </p:blipFill>
        <p:spPr>
          <a:xfrm>
            <a:off x="4419720" y="2440080"/>
            <a:ext cx="4495680" cy="380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03"/>
          <p:cNvPicPr/>
          <p:nvPr/>
        </p:nvPicPr>
        <p:blipFill>
          <a:blip r:embed="rId6"/>
          <a:stretch/>
        </p:blipFill>
        <p:spPr>
          <a:xfrm>
            <a:off x="0" y="4876920"/>
            <a:ext cx="138276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8001000" y="64152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2949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5724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781680" y="6553080"/>
            <a:ext cx="10670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CBA0-9A5D-4227-8A4C-19D4DFD8BF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826920" y="162864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Оценочные техники и инструменты для формирующего оценива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Обязательный минимум знаний по предмету доводится до сведения каждого учащегося в виде информационного листа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Сдача образовательных минимумов по основным предметам является обязательной после освоения материала программы в течение каждой четверти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Образовательные минимумы проводятся по следующим предметам:</a:t>
            </a: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4, 5, 6, 7 и 8 классы (по русскому языку и математике);</a:t>
            </a: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9, 10, и 11 классы (по русскому языку и математике </a:t>
            </a:r>
            <a:r>
              <a:rPr b="1" i="1" lang="ru-RU" sz="2000" spc="-1" strike="noStrike">
                <a:solidFill>
                  <a:srgbClr val="063c60"/>
                </a:solidFill>
                <a:latin typeface="Arial"/>
              </a:rPr>
              <a:t>и двум профильным предметам</a:t>
            </a: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)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Оценивание образовательного минимума осуществляется по зачетной системе, учащиеся </a:t>
            </a:r>
            <a:r>
              <a:rPr b="1" lang="en-US" sz="2000" spc="-1" strike="noStrike">
                <a:solidFill>
                  <a:srgbClr val="063c60"/>
                </a:solidFill>
                <a:latin typeface="Arial"/>
              </a:rPr>
              <a:t>получившие</a:t>
            </a: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 «незачет» в основной период сдачи минимумов, пересдают образовательный минимум до получения оценки «зачет» 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000" spc="-1" strike="noStrike">
              <a:solidFill>
                <a:srgbClr val="063c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reeform 4"/>
          <p:cNvSpPr/>
          <p:nvPr/>
        </p:nvSpPr>
        <p:spPr>
          <a:xfrm>
            <a:off x="-11160" y="4491000"/>
            <a:ext cx="9155160" cy="2367000"/>
          </a:xfrm>
          <a:custGeom>
            <a:avLst/>
            <a:gdLst/>
            <a:ahLst/>
            <a:rect l="l" t="t" r="r" b="b"/>
            <a:pathLst>
              <a:path w="5767" h="1491">
                <a:moveTo>
                  <a:pt x="0" y="0"/>
                </a:moveTo>
                <a:cubicBezTo>
                  <a:pt x="3558" y="284"/>
                  <a:pt x="4809" y="771"/>
                  <a:pt x="5767" y="1049"/>
                </a:cubicBezTo>
                <a:lnTo>
                  <a:pt x="5767" y="1481"/>
                </a:lnTo>
                <a:lnTo>
                  <a:pt x="4310" y="1491"/>
                </a:lnTo>
                <a:cubicBezTo>
                  <a:pt x="3563" y="1061"/>
                  <a:pt x="2440" y="414"/>
                  <a:pt x="7" y="88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4d1ea"/>
              </a:gs>
              <a:gs pos="100000">
                <a:srgbClr val="5598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ьте уверены, что каждый ученик может стать луч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йте среду, способствующую партнёрству учителя и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йте оценивание, чтобы получать информацию об учении и препода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уждайте с учениками результаты оценивания и вместе устанавливайте ясные и достижимые учебные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йте обратную связь, помогая ученикам определить свои следующие шаги и то, как их осуществ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395280" y="1557360"/>
            <a:ext cx="360360" cy="358920"/>
            <a:chOff x="395280" y="1557360"/>
            <a:chExt cx="360360" cy="358920"/>
          </a:xfrm>
        </p:grpSpPr>
        <p:sp>
          <p:nvSpPr>
            <p:cNvPr id="189" name="Oval 7"/>
            <p:cNvSpPr/>
            <p:nvPr/>
          </p:nvSpPr>
          <p:spPr>
            <a:xfrm>
              <a:off x="395280" y="182916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8"/>
            <p:cNvSpPr/>
            <p:nvPr/>
          </p:nvSpPr>
          <p:spPr>
            <a:xfrm>
              <a:off x="395280" y="1557360"/>
              <a:ext cx="360360" cy="35892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9"/>
          <p:cNvGrpSpPr/>
          <p:nvPr/>
        </p:nvGrpSpPr>
        <p:grpSpPr>
          <a:xfrm>
            <a:off x="395280" y="2276640"/>
            <a:ext cx="360360" cy="358560"/>
            <a:chOff x="395280" y="2276640"/>
            <a:chExt cx="360360" cy="358560"/>
          </a:xfrm>
        </p:grpSpPr>
        <p:sp>
          <p:nvSpPr>
            <p:cNvPr id="192" name="Oval 10"/>
            <p:cNvSpPr/>
            <p:nvPr/>
          </p:nvSpPr>
          <p:spPr>
            <a:xfrm>
              <a:off x="395280" y="254844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1"/>
            <p:cNvSpPr/>
            <p:nvPr/>
          </p:nvSpPr>
          <p:spPr>
            <a:xfrm>
              <a:off x="395280" y="2276640"/>
              <a:ext cx="360360" cy="35856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2"/>
          <p:cNvGrpSpPr/>
          <p:nvPr/>
        </p:nvGrpSpPr>
        <p:grpSpPr>
          <a:xfrm>
            <a:off x="395280" y="3068640"/>
            <a:ext cx="360360" cy="358920"/>
            <a:chOff x="395280" y="3068640"/>
            <a:chExt cx="360360" cy="358920"/>
          </a:xfrm>
        </p:grpSpPr>
        <p:sp>
          <p:nvSpPr>
            <p:cNvPr id="195" name="Oval 13"/>
            <p:cNvSpPr/>
            <p:nvPr/>
          </p:nvSpPr>
          <p:spPr>
            <a:xfrm>
              <a:off x="395280" y="334044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4"/>
            <p:cNvSpPr/>
            <p:nvPr/>
          </p:nvSpPr>
          <p:spPr>
            <a:xfrm>
              <a:off x="395280" y="3068640"/>
              <a:ext cx="360360" cy="35892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5"/>
          <p:cNvGrpSpPr/>
          <p:nvPr/>
        </p:nvGrpSpPr>
        <p:grpSpPr>
          <a:xfrm>
            <a:off x="395280" y="3860640"/>
            <a:ext cx="360360" cy="358920"/>
            <a:chOff x="395280" y="3860640"/>
            <a:chExt cx="360360" cy="358920"/>
          </a:xfrm>
        </p:grpSpPr>
        <p:sp>
          <p:nvSpPr>
            <p:cNvPr id="198" name="Oval 16"/>
            <p:cNvSpPr/>
            <p:nvPr/>
          </p:nvSpPr>
          <p:spPr>
            <a:xfrm>
              <a:off x="395280" y="413244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7"/>
            <p:cNvSpPr/>
            <p:nvPr/>
          </p:nvSpPr>
          <p:spPr>
            <a:xfrm>
              <a:off x="395280" y="3860640"/>
              <a:ext cx="360360" cy="35892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395280" y="4941720"/>
            <a:ext cx="360360" cy="358920"/>
            <a:chOff x="395280" y="4941720"/>
            <a:chExt cx="360360" cy="358920"/>
          </a:xfrm>
        </p:grpSpPr>
        <p:sp>
          <p:nvSpPr>
            <p:cNvPr id="201" name="Oval 19"/>
            <p:cNvSpPr/>
            <p:nvPr/>
          </p:nvSpPr>
          <p:spPr>
            <a:xfrm>
              <a:off x="395280" y="521352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0"/>
            <p:cNvSpPr/>
            <p:nvPr/>
          </p:nvSpPr>
          <p:spPr>
            <a:xfrm>
              <a:off x="395280" y="4941720"/>
              <a:ext cx="360360" cy="35892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1280" y="404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екомендации учите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reeform 3"/>
          <p:cNvSpPr/>
          <p:nvPr/>
        </p:nvSpPr>
        <p:spPr>
          <a:xfrm>
            <a:off x="324000" y="5300640"/>
            <a:ext cx="1015920" cy="115560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4"/>
          <p:cNvSpPr/>
          <p:nvPr/>
        </p:nvSpPr>
        <p:spPr>
          <a:xfrm rot="10800000">
            <a:off x="3203640" y="2636640"/>
            <a:ext cx="1008000" cy="12999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299960"/>
              <a:gd name="textAreaBottom" fmla="*/ 1300320 h 129996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Rectangle 5"/>
          <p:cNvGrpSpPr/>
          <p:nvPr/>
        </p:nvGrpSpPr>
        <p:grpSpPr>
          <a:xfrm>
            <a:off x="390600" y="2700360"/>
            <a:ext cx="3754440" cy="3670200"/>
            <a:chOff x="390600" y="2700360"/>
            <a:chExt cx="3754440" cy="3670200"/>
          </a:xfrm>
        </p:grpSpPr>
        <p:pic>
          <p:nvPicPr>
            <p:cNvPr id="102" name="Rectangle 5" descr=""/>
            <p:cNvPicPr/>
            <p:nvPr/>
          </p:nvPicPr>
          <p:blipFill>
            <a:blip r:embed="rId1"/>
            <a:stretch/>
          </p:blipFill>
          <p:spPr>
            <a:xfrm>
              <a:off x="390600" y="2700360"/>
              <a:ext cx="3754440" cy="36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95280" y="2708280"/>
              <a:ext cx="374328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ценка применяется для получения данных о текущем состоянии для определения ближайших шагов в направлении улучшения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6"/>
          <p:cNvSpPr/>
          <p:nvPr/>
        </p:nvSpPr>
        <p:spPr>
          <a:xfrm>
            <a:off x="4643280" y="5229360"/>
            <a:ext cx="1016280" cy="1155600"/>
          </a:xfrm>
          <a:custGeom>
            <a:avLst/>
            <a:gdLst>
              <a:gd name="textAreaLeft" fmla="*/ 0 w 1016280"/>
              <a:gd name="textAreaRight" fmla="*/ 1016640 w 10162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"/>
          <p:cNvSpPr/>
          <p:nvPr/>
        </p:nvSpPr>
        <p:spPr>
          <a:xfrm rot="10800000">
            <a:off x="7451640" y="2637000"/>
            <a:ext cx="1015920" cy="115560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Rectangle 8"/>
          <p:cNvGrpSpPr/>
          <p:nvPr/>
        </p:nvGrpSpPr>
        <p:grpSpPr>
          <a:xfrm>
            <a:off x="4711680" y="2700360"/>
            <a:ext cx="3683160" cy="3597120"/>
            <a:chOff x="4711680" y="2700360"/>
            <a:chExt cx="3683160" cy="3597120"/>
          </a:xfrm>
        </p:grpSpPr>
        <p:pic>
          <p:nvPicPr>
            <p:cNvPr id="107" name="Rectangle 8" descr=""/>
            <p:cNvPicPr/>
            <p:nvPr/>
          </p:nvPicPr>
          <p:blipFill>
            <a:blip r:embed="rId2"/>
            <a:stretch/>
          </p:blipFill>
          <p:spPr>
            <a:xfrm>
              <a:off x="4711680" y="2700360"/>
              <a:ext cx="3683160" cy="35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716360" y="2708280"/>
              <a:ext cx="3672000" cy="35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ценка применяется для определения количества изученного материала за пройденный период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9"/>
          <p:cNvSpPr/>
          <p:nvPr/>
        </p:nvSpPr>
        <p:spPr>
          <a:xfrm>
            <a:off x="324000" y="1773360"/>
            <a:ext cx="3816360" cy="576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beaa8"/>
              </a:gs>
            </a:gsLst>
            <a:lin ang="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ирующее оцени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0" y="1844640"/>
            <a:ext cx="380880" cy="380880"/>
            <a:chOff x="0" y="1844640"/>
            <a:chExt cx="380880" cy="380880"/>
          </a:xfrm>
        </p:grpSpPr>
        <p:sp>
          <p:nvSpPr>
            <p:cNvPr id="111" name="Oval 11"/>
            <p:cNvSpPr/>
            <p:nvPr/>
          </p:nvSpPr>
          <p:spPr>
            <a:xfrm>
              <a:off x="0" y="18446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2"/>
            <p:cNvSpPr/>
            <p:nvPr/>
          </p:nvSpPr>
          <p:spPr>
            <a:xfrm>
              <a:off x="21600" y="18658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41040" y="18856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7aa6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4"/>
            <p:cNvSpPr/>
            <p:nvPr/>
          </p:nvSpPr>
          <p:spPr>
            <a:xfrm>
              <a:off x="41400" y="18860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5"/>
            <p:cNvSpPr/>
            <p:nvPr/>
          </p:nvSpPr>
          <p:spPr>
            <a:xfrm>
              <a:off x="60120" y="1904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6c5c3c"/>
                </a:gs>
                <a:gs pos="50000">
                  <a:srgbClr val="c7aa6f"/>
                </a:gs>
                <a:gs pos="100000">
                  <a:srgbClr val="6c5c3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6"/>
            <p:cNvSpPr/>
            <p:nvPr/>
          </p:nvSpPr>
          <p:spPr>
            <a:xfrm>
              <a:off x="60840" y="19054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AutoShape 25"/>
          <p:cNvSpPr/>
          <p:nvPr/>
        </p:nvSpPr>
        <p:spPr>
          <a:xfrm>
            <a:off x="4932360" y="1773360"/>
            <a:ext cx="34560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5f84df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тоговое оцени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1"/>
          <p:cNvGrpSpPr/>
          <p:nvPr/>
        </p:nvGrpSpPr>
        <p:grpSpPr>
          <a:xfrm>
            <a:off x="4716360" y="1916280"/>
            <a:ext cx="381240" cy="380880"/>
            <a:chOff x="4716360" y="1916280"/>
            <a:chExt cx="381240" cy="380880"/>
          </a:xfrm>
        </p:grpSpPr>
        <p:sp>
          <p:nvSpPr>
            <p:cNvPr id="119" name="Oval 42"/>
            <p:cNvSpPr/>
            <p:nvPr/>
          </p:nvSpPr>
          <p:spPr>
            <a:xfrm>
              <a:off x="4716360" y="19162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>
              <a:off x="4737960" y="19375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>
              <a:off x="4757400" y="19573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7aa6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>
              <a:off x="4757760" y="19576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>
              <a:off x="4776840" y="19764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6c5c3c"/>
                </a:gs>
                <a:gs pos="50000">
                  <a:srgbClr val="c7aa6f"/>
                </a:gs>
                <a:gs pos="100000">
                  <a:srgbClr val="6c5c3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>
              <a:off x="4777560" y="19771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48"/>
          <p:cNvSpPr/>
          <p:nvPr/>
        </p:nvSpPr>
        <p:spPr>
          <a:xfrm>
            <a:off x="250920" y="18900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Два подхода к использованию 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Формирующее оценивание – </a:t>
            </a:r>
            <a:br>
              <a:rPr sz="3600"/>
            </a:b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это «оценивание для обучения»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557360"/>
            <a:ext cx="8317080" cy="1655640"/>
          </a:xfrm>
          <a:prstGeom prst="rect">
            <a:avLst/>
          </a:prstGeom>
          <a:gradFill rotWithShape="0">
            <a:gsLst>
              <a:gs pos="0">
                <a:srgbClr val="004b70">
                  <a:alpha val="80000"/>
                </a:srgbClr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7559640" y="1557360"/>
            <a:ext cx="1583640" cy="1654920"/>
            <a:chOff x="7559640" y="1557360"/>
            <a:chExt cx="1583640" cy="1654920"/>
          </a:xfrm>
        </p:grpSpPr>
        <p:grpSp>
          <p:nvGrpSpPr>
            <p:cNvPr id="129" name="Group 5"/>
            <p:cNvGrpSpPr/>
            <p:nvPr/>
          </p:nvGrpSpPr>
          <p:grpSpPr>
            <a:xfrm>
              <a:off x="7559640" y="1557360"/>
              <a:ext cx="1583640" cy="1654920"/>
              <a:chOff x="7559640" y="1557360"/>
              <a:chExt cx="1583640" cy="1654920"/>
            </a:xfrm>
          </p:grpSpPr>
          <p:sp>
            <p:nvSpPr>
              <p:cNvPr id="130" name="Oval 6"/>
              <p:cNvSpPr/>
              <p:nvPr/>
            </p:nvSpPr>
            <p:spPr>
              <a:xfrm>
                <a:off x="7559640" y="1557360"/>
                <a:ext cx="1583640" cy="16549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>
                <a:off x="7740720" y="1584720"/>
                <a:ext cx="1221480" cy="624600"/>
              </a:xfrm>
              <a:custGeom>
                <a:avLst/>
                <a:gdLst>
                  <a:gd name="textAreaLeft" fmla="*/ 0 w 1221480"/>
                  <a:gd name="textAreaRight" fmla="*/ 1221840 w 1221480"/>
                  <a:gd name="textAreaTop" fmla="*/ 0 h 624600"/>
                  <a:gd name="textAreaBottom" fmla="*/ 624960 h 624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Text Box 8"/>
            <p:cNvSpPr/>
            <p:nvPr/>
          </p:nvSpPr>
          <p:spPr>
            <a:xfrm>
              <a:off x="8292960" y="1741320"/>
              <a:ext cx="1828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9"/>
          <p:cNvSpPr/>
          <p:nvPr/>
        </p:nvSpPr>
        <p:spPr>
          <a:xfrm>
            <a:off x="-1116000" y="1557360"/>
            <a:ext cx="84247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Оценивание – это механизм, обеспечивающий преподавателя информацией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которая нужна ему, чтобы совершенствовать преподавание, находить наиболее эффективные методы обучения, а также мотивировать учеников более активно  включиться в свое уч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3357720"/>
            <a:ext cx="7740720" cy="1655640"/>
          </a:xfrm>
          <a:prstGeom prst="rect">
            <a:avLst/>
          </a:prstGeom>
          <a:gradFill rotWithShape="0">
            <a:gsLst>
              <a:gs pos="0">
                <a:srgbClr val="004b70">
                  <a:alpha val="80000"/>
                </a:srgbClr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7020000" y="3357720"/>
            <a:ext cx="1620000" cy="1656360"/>
            <a:chOff x="7020000" y="3357720"/>
            <a:chExt cx="1620000" cy="1656360"/>
          </a:xfrm>
        </p:grpSpPr>
        <p:grpSp>
          <p:nvGrpSpPr>
            <p:cNvPr id="136" name="Group 12"/>
            <p:cNvGrpSpPr/>
            <p:nvPr/>
          </p:nvGrpSpPr>
          <p:grpSpPr>
            <a:xfrm>
              <a:off x="7020000" y="3357720"/>
              <a:ext cx="1620000" cy="1656360"/>
              <a:chOff x="7020000" y="3357720"/>
              <a:chExt cx="1620000" cy="1656360"/>
            </a:xfrm>
          </p:grpSpPr>
          <p:sp>
            <p:nvSpPr>
              <p:cNvPr id="137" name="Oval 13"/>
              <p:cNvSpPr/>
              <p:nvPr/>
            </p:nvSpPr>
            <p:spPr>
              <a:xfrm>
                <a:off x="7020000" y="3357720"/>
                <a:ext cx="1620000" cy="165636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4"/>
              <p:cNvSpPr/>
              <p:nvPr/>
            </p:nvSpPr>
            <p:spPr>
              <a:xfrm>
                <a:off x="7205040" y="3385080"/>
                <a:ext cx="1249560" cy="624960"/>
              </a:xfrm>
              <a:custGeom>
                <a:avLst/>
                <a:gdLst>
                  <a:gd name="textAreaLeft" fmla="*/ 0 w 1249560"/>
                  <a:gd name="textAreaRight" fmla="*/ 1249560 w 1249560"/>
                  <a:gd name="textAreaTop" fmla="*/ 0 h 624960"/>
                  <a:gd name="textAreaBottom" fmla="*/ 625320 h 624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 Box 15"/>
            <p:cNvSpPr/>
            <p:nvPr/>
          </p:nvSpPr>
          <p:spPr>
            <a:xfrm>
              <a:off x="7724520" y="3585240"/>
              <a:ext cx="180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23"/>
          <p:cNvSpPr/>
          <p:nvPr/>
        </p:nvSpPr>
        <p:spPr>
          <a:xfrm>
            <a:off x="3492360" y="429264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0" y="5229360"/>
            <a:ext cx="7056360" cy="1512720"/>
          </a:xfrm>
          <a:prstGeom prst="rect">
            <a:avLst/>
          </a:prstGeom>
          <a:gradFill rotWithShape="0">
            <a:gsLst>
              <a:gs pos="0">
                <a:srgbClr val="004b70">
                  <a:alpha val="80000"/>
                </a:srgbClr>
              </a:gs>
              <a:gs pos="100000">
                <a:srgbClr val="33ad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5"/>
          <p:cNvGrpSpPr/>
          <p:nvPr/>
        </p:nvGrpSpPr>
        <p:grpSpPr>
          <a:xfrm>
            <a:off x="6372360" y="5157720"/>
            <a:ext cx="1584360" cy="1584360"/>
            <a:chOff x="6372360" y="5157720"/>
            <a:chExt cx="1584360" cy="1584360"/>
          </a:xfrm>
        </p:grpSpPr>
        <p:sp>
          <p:nvSpPr>
            <p:cNvPr id="143" name="Oval 26"/>
            <p:cNvSpPr/>
            <p:nvPr/>
          </p:nvSpPr>
          <p:spPr>
            <a:xfrm>
              <a:off x="6372360" y="5157720"/>
              <a:ext cx="1584360" cy="15843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6553440" y="5184000"/>
              <a:ext cx="1222200" cy="597960"/>
            </a:xfrm>
            <a:custGeom>
              <a:avLst/>
              <a:gdLst>
                <a:gd name="textAreaLeft" fmla="*/ 0 w 1222200"/>
                <a:gd name="textAreaRight" fmla="*/ 1222560 w 1222200"/>
                <a:gd name="textAreaTop" fmla="*/ 0 h 597960"/>
                <a:gd name="textAreaBottom" fmla="*/ 598320 h 5979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31"/>
          <p:cNvSpPr/>
          <p:nvPr/>
        </p:nvSpPr>
        <p:spPr>
          <a:xfrm>
            <a:off x="250920" y="3357720"/>
            <a:ext cx="74880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Оценивание – это обратная связь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Оно дает информацию о том, чему ученики обучились и как учатся в данный момент, а также о том, в какой степени преподаватель реализовал поставленные учебные цели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324000" y="5300640"/>
            <a:ext cx="64800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Оценивание направляет учение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: выполнив задания, ученики узнают о том, какого уровня они достигли, пройдя тот или иной курс, и в каком направлении им нужно двигаться дальш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37"/>
          <p:cNvSpPr/>
          <p:nvPr/>
        </p:nvSpPr>
        <p:spPr>
          <a:xfrm>
            <a:off x="-11160" y="4491000"/>
            <a:ext cx="9155160" cy="2367000"/>
          </a:xfrm>
          <a:custGeom>
            <a:avLst/>
            <a:gdLst/>
            <a:ahLst/>
            <a:rect l="l" t="t" r="r" b="b"/>
            <a:pathLst>
              <a:path w="5767" h="1491">
                <a:moveTo>
                  <a:pt x="0" y="0"/>
                </a:moveTo>
                <a:cubicBezTo>
                  <a:pt x="3558" y="284"/>
                  <a:pt x="4809" y="771"/>
                  <a:pt x="5767" y="1049"/>
                </a:cubicBezTo>
                <a:lnTo>
                  <a:pt x="5767" y="1481"/>
                </a:lnTo>
                <a:lnTo>
                  <a:pt x="4310" y="1491"/>
                </a:lnTo>
                <a:cubicBezTo>
                  <a:pt x="3563" y="1061"/>
                  <a:pt x="2440" y="414"/>
                  <a:pt x="7" y="88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4d1ea"/>
              </a:gs>
              <a:gs pos="100000">
                <a:srgbClr val="5598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Техники формирующего оценивания</a:t>
            </a:r>
            <a:endParaRPr b="1" lang="en-US" sz="32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324000" y="3357720"/>
            <a:ext cx="2543040" cy="1311120"/>
          </a:xfrm>
          <a:prstGeom prst="roundRect">
            <a:avLst>
              <a:gd name="adj" fmla="val 12699"/>
            </a:avLst>
          </a:prstGeom>
          <a:solidFill>
            <a:srgbClr val="559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95280" y="3573360"/>
            <a:ext cx="2448000" cy="9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79280" y="371628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осники самодиагност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1042920" y="1628640"/>
            <a:ext cx="2543400" cy="1295640"/>
          </a:xfrm>
          <a:prstGeom prst="roundRect">
            <a:avLst>
              <a:gd name="adj" fmla="val 12699"/>
            </a:avLst>
          </a:prstGeom>
          <a:solidFill>
            <a:srgbClr val="9e65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1116000" y="1773360"/>
            <a:ext cx="24084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258920" y="191628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дельные от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6443640" y="3716280"/>
            <a:ext cx="2543040" cy="1154160"/>
          </a:xfrm>
          <a:prstGeom prst="roundRect">
            <a:avLst>
              <a:gd name="adj" fmla="val 12699"/>
            </a:avLst>
          </a:prstGeom>
          <a:solidFill>
            <a:srgbClr val="c7aa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6516720" y="4005360"/>
            <a:ext cx="24080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6475320" y="4443480"/>
            <a:ext cx="1650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588000" y="4076640"/>
            <a:ext cx="23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уб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6"/>
          <p:cNvSpPr/>
          <p:nvPr/>
        </p:nvSpPr>
        <p:spPr>
          <a:xfrm>
            <a:off x="971640" y="5300640"/>
            <a:ext cx="2543040" cy="1225440"/>
          </a:xfrm>
          <a:prstGeom prst="roundRect">
            <a:avLst>
              <a:gd name="adj" fmla="val 12699"/>
            </a:avLst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7"/>
          <p:cNvSpPr/>
          <p:nvPr/>
        </p:nvSpPr>
        <p:spPr>
          <a:xfrm>
            <a:off x="1042920" y="5516640"/>
            <a:ext cx="24084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116000" y="5734080"/>
            <a:ext cx="23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0"/>
          <p:cNvGrpSpPr/>
          <p:nvPr/>
        </p:nvGrpSpPr>
        <p:grpSpPr>
          <a:xfrm>
            <a:off x="2763360" y="2258280"/>
            <a:ext cx="3635640" cy="3620160"/>
            <a:chOff x="2763360" y="2258280"/>
            <a:chExt cx="3635640" cy="3620160"/>
          </a:xfrm>
        </p:grpSpPr>
        <p:sp>
          <p:nvSpPr>
            <p:cNvPr id="163" name="AutoShape 21"/>
            <p:cNvSpPr/>
            <p:nvPr/>
          </p:nvSpPr>
          <p:spPr>
            <a:xfrm rot="6774000">
              <a:off x="3228480" y="2809800"/>
              <a:ext cx="2679480" cy="264132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000 h 2641320"/>
                <a:gd name="textAreaBottom" fmla="*/ 225432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7aa6f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rot="12174000">
              <a:off x="3171600" y="279216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598cf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23"/>
            <p:cNvSpPr/>
            <p:nvPr/>
          </p:nvSpPr>
          <p:spPr>
            <a:xfrm rot="17574600">
              <a:off x="3268080" y="2685240"/>
              <a:ext cx="2679480" cy="264132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000 h 2641320"/>
                <a:gd name="textAreaBottom" fmla="*/ 225432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a060b"/>
                </a:gs>
                <a:gs pos="100000">
                  <a:srgbClr val="9e65b7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24"/>
            <p:cNvSpPr/>
            <p:nvPr/>
          </p:nvSpPr>
          <p:spPr>
            <a:xfrm rot="1374000">
              <a:off x="3310920" y="274248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aad955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27"/>
          <p:cNvSpPr/>
          <p:nvPr/>
        </p:nvSpPr>
        <p:spPr>
          <a:xfrm>
            <a:off x="6012000" y="1773360"/>
            <a:ext cx="2543040" cy="1296720"/>
          </a:xfrm>
          <a:prstGeom prst="roundRect">
            <a:avLst>
              <a:gd name="adj" fmla="val 12699"/>
            </a:avLst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8"/>
          <p:cNvSpPr/>
          <p:nvPr/>
        </p:nvSpPr>
        <p:spPr>
          <a:xfrm>
            <a:off x="6084720" y="2060640"/>
            <a:ext cx="24084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6227640" y="2205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ы по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0"/>
          <p:cNvSpPr/>
          <p:nvPr/>
        </p:nvSpPr>
        <p:spPr>
          <a:xfrm>
            <a:off x="5508720" y="5300640"/>
            <a:ext cx="2543040" cy="1368360"/>
          </a:xfrm>
          <a:prstGeom prst="roundRect">
            <a:avLst>
              <a:gd name="adj" fmla="val 12699"/>
            </a:avLst>
          </a:prstGeom>
          <a:solidFill>
            <a:srgbClr val="9e65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>
            <a:off x="5580000" y="544500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5"/>
          <p:cNvSpPr/>
          <p:nvPr/>
        </p:nvSpPr>
        <p:spPr>
          <a:xfrm>
            <a:off x="5580000" y="544500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5651640" y="5589720"/>
            <a:ext cx="223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те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Georgia"/>
              </a:rPr>
              <a:t>Портфолио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141300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</a:t>
            </a:r>
            <a:r>
              <a:rPr b="0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адиционная форма портфолио представляет собой коллекцию работ, целью которой является демонстрация образовательных достижений учащегося, являясь по сути альтернативным по отношению к традиционным формам (тест, экзамен) способом оценивания, портфолио позволяет решить две 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следить индивидуальный прогресс учащегося, достигнутый им в процессе обучения, вне сравнения с достижениями других учени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ценить его образовательные достижения и дополнить (заменить) результаты тестирования и других х форм контро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Тетрадь формирования и отслеживания предметных и метапредметных умений.</a:t>
            </a: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663560"/>
          <a:ext cx="8496360" cy="5011920"/>
        </p:xfrm>
        <a:graphic>
          <a:graphicData uri="http://schemas.openxmlformats.org/drawingml/2006/table">
            <a:tbl>
              <a:tblPr/>
              <a:tblGrid>
                <a:gridCol w="242640"/>
                <a:gridCol w="1533600"/>
                <a:gridCol w="439920"/>
                <a:gridCol w="441360"/>
                <a:gridCol w="439560"/>
                <a:gridCol w="441360"/>
                <a:gridCol w="328680"/>
                <a:gridCol w="326880"/>
                <a:gridCol w="330120"/>
                <a:gridCol w="328680"/>
                <a:gridCol w="341280"/>
                <a:gridCol w="343080"/>
                <a:gridCol w="328680"/>
                <a:gridCol w="328320"/>
                <a:gridCol w="328680"/>
                <a:gridCol w="328680"/>
                <a:gridCol w="328680"/>
                <a:gridCol w="330120"/>
                <a:gridCol w="328680"/>
                <a:gridCol w="328680"/>
                <a:gridCol w="328680"/>
              </a:tblGrid>
              <a:tr h="175320">
                <a:tc rowSpan="2"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Фамилия Им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 четвер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 четвер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 четвер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 gridSpan="2"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сок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</a:tr>
              <a:tr h="213840">
                <a:tc gridSpan="2"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редн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0960">
                <a:tc gridSpan="2"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изк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Педагогическая диагностика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едагогическая диагностика – это совокупность специально подобранных и систематизированных заданий, которые позво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особенности усвоения учащимися предметных знаний, умений и навы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характер трудностей ученика и установить их прич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уровень овладения учебной деятельност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ть изменения, происходящие в развитии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Мониторинг-карта развития учащегося ФГОС</a:t>
            </a:r>
            <a:br>
              <a:rPr sz="2800"/>
            </a:b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24000" y="1484280"/>
          <a:ext cx="5348160" cy="171360"/>
        </p:xfrm>
        <a:graphic>
          <a:graphicData uri="http://schemas.openxmlformats.org/drawingml/2006/table">
            <a:tbl>
              <a:tblPr/>
              <a:tblGrid>
                <a:gridCol w="345960"/>
                <a:gridCol w="1268280"/>
                <a:gridCol w="352440"/>
                <a:gridCol w="1400400"/>
                <a:gridCol w="309600"/>
                <a:gridCol w="1671480"/>
              </a:tblGrid>
              <a:tr h="17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Таблица 6" descr=""/>
          <p:cNvPicPr/>
          <p:nvPr/>
        </p:nvPicPr>
        <p:blipFill>
          <a:blip r:embed="rId1"/>
          <a:stretch/>
        </p:blipFill>
        <p:spPr>
          <a:xfrm>
            <a:off x="244440" y="1809720"/>
            <a:ext cx="87235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Методика «Образовательный минимум»</a:t>
            </a: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а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одной из возможных форм контроля предметных знаний учащихся и предоставляет широкие возможности для повышения эффективности внутренних систем оценки качества образования в современных образовательных организ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й миниму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минимальная часть предметных знаний, которую обучающийся должен усвоить на определенном этапе учеб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й минимум может включать в себ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базовых понятий, ключевых терми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иро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сиом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ов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, закономерностей и т.п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ческие формулы, выражения и неравен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ы решения задач, действий и т.п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рические да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, таблицы, схемы и д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фикация видов объектов или проце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20:44:27Z</dcterms:created>
  <dc:creator>Aelita</dc:creator>
  <dc:description/>
  <dc:language>en-US</dc:language>
  <cp:lastModifiedBy>Учитель</cp:lastModifiedBy>
  <dcterms:modified xsi:type="dcterms:W3CDTF">2018-01-29T05:55:00Z</dcterms:modified>
  <cp:revision>54</cp:revision>
  <dc:subject/>
  <dc:title>Themegallery PowerTemplate</dc:title>
</cp:coreProperties>
</file>